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B32-0A7A-4CF6-BF80-AD14F939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1DE2-B28A-40AF-B340-491719DA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57C-09BC-4BC4-932B-C518D992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993C-3FCE-4F71-8363-3FDB6756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E870-6FB9-403E-9898-D58BAFE8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73C6-AF5C-4110-A16B-ED1DEED7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0979-DD5B-4E4A-A289-2A6028EF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39F2-4626-4F89-8453-6B270300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4F52-3630-4AC3-849A-939F4E59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4CDC-69DA-4B13-9278-099E39E9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D3E8-D28A-4D12-AD28-2CEF5FE5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7C4A-ECF0-4465-8907-0D9F28FF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6100-9AD8-446A-B636-DB156C80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510E-2CF5-4B09-9199-02D9999A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04E3-8CCB-458A-8631-1D275C1B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1F7EB-95C1-4156-B047-E8943403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6A77-73C9-453A-8036-FFE1BAAB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DB9F2-79E4-4FF4-AE8F-83DB1AC3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A4787-899F-4CC7-8C46-949CE4B0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3237D-F6BC-4821-8FE8-AC535BCA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8D15F-D547-41C4-A3DD-3039DFC8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7698E-57DC-4648-8B94-06FBEB24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7F37-091B-4014-8A89-623EE625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36506-1F62-42FF-AB3E-0BF8D9E2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3AB00-C4CC-4B4B-9833-6118F22B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C893C-4602-4FB3-A554-4B33D9FB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42176-2461-4B21-8FBB-65ECE9D8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4EEBF-E081-48FF-B3F5-02B84786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9B428-FAD8-4E37-8786-0537304D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A81A7-BF16-4BBB-A267-5903F909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E563F-CF72-4D4B-899D-CC5832A5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9ABE6-0ED3-4E81-83F8-74172B17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3FB86-E12F-48BB-8650-7C0510FB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9F10-788F-48DA-9350-061906FB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6DD67-8498-4B44-8363-75AC74DE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1611D-9400-426F-8CB2-8AA95F1D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DFFD0-A99E-43AC-B432-09445E84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78CC5-866C-4E8C-8245-0E064ADF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E870B-3D45-4B07-AA4B-EA244147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F89F2-A845-4BE3-85BA-F684B6DE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AC200-82B6-46D9-B7F8-D78F5FE3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FDE64-60BD-478B-ABCB-A059274B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CB5E9-150F-4F5A-8D03-7C9C04AC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26D62-135E-4E72-9AA4-2623FA50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6912-14FD-4099-8D5B-75B5D572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1AF35-0546-4A63-BD30-153E6F5A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DCA27-7046-4F0C-927F-8B8FE488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C56AD-F05A-470D-9519-A4F34018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CC33D-E334-4AD2-AF78-6BF9DC32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CC42E-5494-4924-BE1E-1CA8238A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4D370-54A8-432E-B7C6-8181560A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95FCE-D321-4284-BA76-5CE64533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56908-FCC5-420D-AE6A-F493B4F4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8B4BD-4CF9-42AA-BBA3-C734CF3F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9683A-0850-441B-868A-1DDFD9A2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CCE6-1163-4CD9-BB3E-9D3E9837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79F9C-6008-403C-B381-193C8AB6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EF1A5-FA74-4A80-BC47-C465ACBF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DD951-E905-4DDC-A3EC-4167A6E6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00F27-0B95-46F7-81AC-D727E331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AD194-9B13-4706-A3E9-8B983D8A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541AF-940B-48F8-BC11-46A9646C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078FE-4FDF-4C62-8E22-CBDC704A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E6A5F-A254-479B-B05F-333694BF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6B966-9B65-4074-9414-42763C4D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082AC-E734-4933-9E02-E3250883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BA86-F8BB-4D4F-8A06-A01BF71E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0217A-EA1D-46AF-8F03-69FE4B87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5C4C9-E638-4187-BC1F-12222590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E8872-9F10-49F4-9198-1B14A8C7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2FAA4-7C89-4F4A-B93D-DD8E6DDF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BBCA7-3BCA-4EC1-BC92-ABD26A05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189C8-9F24-474A-8CDE-07AF5C33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1290C-C0FD-4D7B-80B8-A9A52F84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234CF-CF96-4E84-BA60-C7242FC6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B030D-C9E0-491F-8678-77F8C0C1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708EA-1E8E-4C54-A487-BBE26294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988D-6C83-4C04-B811-FA01B949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6821D-2105-4F9E-8F6C-C440A89F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3C171-467B-4546-B94E-B2A66401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1CB28-9823-47EF-A0D2-2015968B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BEA36-8028-4F82-A407-5F5EA929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F17C8-4758-4A03-A6F0-FA85A722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F2B-23F1-44F5-A0BE-49A2F7A7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866D-1211-40E5-95E2-6F10F72FB6AE}" type="slidenum"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82F2-1C5B-4048-B824-40EB3D24556D}" type="slidenum"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8DB8-4CFD-49DC-981D-ECEFE1D8A91C}" type="slidenum"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E3CE-F99A-41B9-B1E3-236234DA14D1}" type="slidenum"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84C4-71BA-42AC-8C7D-D0C9F4EBD7C5}" type="slidenum"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ACA7-0FA8-4B96-8E39-FB07FCB20583}" type="slidenum"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C7E6-2F0B-45CC-9916-0212159E8B2B}" type="slidenum">
              <a:rPr b="0" lang="en-CA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ritannica.com/EBchecked/topic/95628/human-cardiovascular-system/33561/Blood-supply-to-the-heart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esson 12:  Blood flow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Objectiv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Heart’s and body’s blood supp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Components of bloo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icroscop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rt at one of the microscopes.  Observe the slide, write down the stations’ number and what you are observing.  After 2 minutes rotate clockwise until you have seen all of the slid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813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Homework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rossword and question shee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britannica.com/EBchecked/topic/95628/human-cardiovascular-system/33561/Blood-supply-to-the-he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300" spc="-1" strike="noStrike">
                <a:solidFill>
                  <a:srgbClr val="572314"/>
                </a:solidFill>
                <a:latin typeface="Gill Sans MT"/>
              </a:rPr>
              <a:t>Coronary Blood suppl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ill Sans MT"/>
              </a:rPr>
              <a:t>There are two main coronary arteries:  the </a:t>
            </a:r>
            <a:r>
              <a:rPr b="1" lang="en-CA" sz="2800" spc="-1" strike="noStrike">
                <a:solidFill>
                  <a:srgbClr val="000000"/>
                </a:solidFill>
                <a:latin typeface="Gill Sans MT"/>
              </a:rPr>
              <a:t>left main coronary artery</a:t>
            </a:r>
            <a:r>
              <a:rPr b="0" lang="en-CA" sz="2800" spc="-1" strike="noStrike">
                <a:solidFill>
                  <a:srgbClr val="000000"/>
                </a:solidFill>
                <a:latin typeface="Gill Sans MT"/>
              </a:rPr>
              <a:t> and the </a:t>
            </a:r>
            <a:r>
              <a:rPr b="1" lang="en-CA" sz="2800" spc="-1" strike="noStrike">
                <a:solidFill>
                  <a:srgbClr val="000000"/>
                </a:solidFill>
                <a:latin typeface="Gill Sans MT"/>
              </a:rPr>
              <a:t>right coronary artery</a:t>
            </a:r>
            <a:r>
              <a:rPr b="0" lang="en-CA" sz="2800" spc="-1" strike="noStrike">
                <a:solidFill>
                  <a:srgbClr val="000000"/>
                </a:solidFill>
                <a:latin typeface="Gill Sans MT"/>
              </a:rPr>
              <a:t> which come from the aort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Gill Sans MT"/>
              </a:rPr>
              <a:t>The left main coronary artery divides into the </a:t>
            </a:r>
            <a:r>
              <a:rPr b="1" lang="en-CA" sz="2800" spc="-1" strike="noStrike">
                <a:solidFill>
                  <a:srgbClr val="000000"/>
                </a:solidFill>
                <a:latin typeface="Gill Sans MT"/>
              </a:rPr>
              <a:t>left anterior descending branch</a:t>
            </a:r>
            <a:r>
              <a:rPr b="0" lang="en-CA" sz="2800" spc="-1" strike="noStrike">
                <a:solidFill>
                  <a:srgbClr val="000000"/>
                </a:solidFill>
                <a:latin typeface="Gill Sans MT"/>
              </a:rPr>
              <a:t> and the </a:t>
            </a:r>
            <a:r>
              <a:rPr b="1" lang="en-CA" sz="2800" spc="-1" strike="noStrike">
                <a:solidFill>
                  <a:srgbClr val="000000"/>
                </a:solidFill>
                <a:latin typeface="Gill Sans MT"/>
              </a:rPr>
              <a:t>left circumflex arteries</a:t>
            </a:r>
            <a:r>
              <a:rPr b="0" lang="en-CA" sz="28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ill Sans MT"/>
              </a:rPr>
              <a:t>Each artery supplies blood to different parts of the heart muscle and the electrical system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981000" y="0"/>
            <a:ext cx="816300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266760" y="0"/>
            <a:ext cx="876924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3888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900" spc="-1" strike="noStrike">
                <a:solidFill>
                  <a:srgbClr val="572314"/>
                </a:solidFill>
                <a:latin typeface="Gill Sans MT"/>
              </a:rPr>
              <a:t>Blood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042560" y="691920"/>
            <a:ext cx="8101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Plasma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: Pale liquid that carries all the other parts of the blood, nutrients, CO2, urea, hormones and antibod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White blood cells: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 Defends against disease, make antibodies and antitoxi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Platelets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: Have no nucleus, help clot bleed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Red Blood Cells: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 Carry Oxygen and iron.  They have no nucle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19080" y="5373720"/>
            <a:ext cx="10476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900" spc="-1" strike="noStrike">
                <a:solidFill>
                  <a:srgbClr val="572314"/>
                </a:solidFill>
                <a:latin typeface="Gill Sans MT"/>
              </a:rPr>
              <a:t>Parts of the Circulatory System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042560" y="691920"/>
            <a:ext cx="8101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Arteries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carry oxygenated blood away from the he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Leaves the heart at high pressure, so the walls are thick, strong and elasti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Narrower “lumen” or can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EXCEPTION:  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pulmonary arte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Capillarie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Are very small, one cell thick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Diffuse food and oxygen to body tissu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Take CO2 and urea away from body tissu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042560" y="188640"/>
            <a:ext cx="8101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Vei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Take blood back to hear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Blood has lower pressure so the walls are thinn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Larger “lumen”  or tube to carry the bloo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Have valves to keep the blood flowing in the right dire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Gill Sans MT"/>
              </a:rPr>
              <a:t>EXCEPTION:  </a:t>
            </a:r>
            <a:r>
              <a:rPr b="0" lang="en-CA" sz="3200" spc="-1" strike="noStrike">
                <a:solidFill>
                  <a:srgbClr val="000000"/>
                </a:solidFill>
                <a:latin typeface="Gill Sans MT"/>
              </a:rPr>
              <a:t>pulmonary ve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1763640" y="549360"/>
            <a:ext cx="689472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3:29:53Z</dcterms:created>
  <dc:creator>Laura</dc:creator>
  <dc:description/>
  <dc:language>en-US</dc:language>
  <cp:lastModifiedBy>USUARIO</cp:lastModifiedBy>
  <dcterms:modified xsi:type="dcterms:W3CDTF">2013-02-22T16:02:26Z</dcterms:modified>
  <cp:revision>29</cp:revision>
  <dc:subject/>
  <dc:title>Blood circulation</dc:title>
</cp:coreProperties>
</file>